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38A-7D6C-4699-8780-1D41E4FE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9C7-8BBD-4386-855C-D6A612C5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420-FA43-4EB5-8C8B-8C4E14D1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496-070D-48A6-8BF6-8C9FEACA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AE1-7842-48DF-A6D7-37E2D6A4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270-3666-401D-8D45-15687E69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5A2-EDF9-431A-B1FA-C5A89209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0E1-5CEE-4539-94DB-421D0BC1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455-7E12-40B7-8266-814B3786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B6AA-540D-464F-9713-8D09A7C4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7EB-D7DB-4709-9F5B-B5097EFB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10B-CC39-4CF5-B4FF-1CD65623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5F78-1412-4F53-8BC5-A8EE6D007D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Cj02353790000[1]"/>
          <p:cNvPicPr/>
          <p:nvPr/>
        </p:nvPicPr>
        <p:blipFill>
          <a:blip r:embed="rId1"/>
          <a:stretch/>
        </p:blipFill>
        <p:spPr>
          <a:xfrm>
            <a:off x="3132000" y="2997360"/>
            <a:ext cx="3297240" cy="266832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979640" y="907920"/>
            <a:ext cx="5688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action Twin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050920" y="3573360"/>
            <a:ext cx="2376720" cy="70488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64000" y="3573360"/>
            <a:ext cx="1873440" cy="70488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124000" y="333360"/>
            <a:ext cx="5372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n you think of any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2050920" y="3573360"/>
            <a:ext cx="223200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I 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64000" y="3573360"/>
            <a:ext cx="187344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I’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2050920" y="3573360"/>
            <a:ext cx="223200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I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64000" y="3573360"/>
            <a:ext cx="187344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It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2050920" y="3573360"/>
            <a:ext cx="223200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I w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64000" y="3573360"/>
            <a:ext cx="187344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I’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2050920" y="3573360"/>
            <a:ext cx="223200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is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364000" y="3573360"/>
            <a:ext cx="187344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2050920" y="3573360"/>
            <a:ext cx="2232000" cy="13129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does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64000" y="3573360"/>
            <a:ext cx="1873440" cy="13129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doe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2050920" y="3573360"/>
            <a:ext cx="223200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has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64000" y="3573360"/>
            <a:ext cx="187344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ha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050920" y="3573360"/>
            <a:ext cx="223200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can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64000" y="3573360"/>
            <a:ext cx="187344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ca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Cj02353790000[1]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769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2050920" y="3573360"/>
            <a:ext cx="2376720" cy="13129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we w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64000" y="3573360"/>
            <a:ext cx="1873440" cy="703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assoonPrimaryType"/>
              </a:rPr>
              <a:t>we’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08:46:12Z</dcterms:created>
  <dc:creator>GronertK</dc:creator>
  <dc:description/>
  <dc:language>en-US</dc:language>
  <cp:lastModifiedBy>Laura McDow</cp:lastModifiedBy>
  <dcterms:modified xsi:type="dcterms:W3CDTF">2010-09-21T15:18:11Z</dcterms:modified>
  <cp:revision>7</cp:revision>
  <dc:subject/>
  <dc:title>Tuesday 7th February 2006</dc:title>
</cp:coreProperties>
</file>